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E70A-D716-42D7-AEDA-FB8E7459B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9EC6-FFC7-4522-AE6A-0E5465E03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lickbiology.com/igcse-plant-reproduction-powerpoint-presentation-worksheet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26D9-95CB-4521-A3A7-9CE6C6B5B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2.nicerweb.com/Locked/media/ch38/flowe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5B96-FC73-4B98-808E-F9FFC85F4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parknotes.com/biology/plants/plantclassification/section2.r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D851-3CC9-437D-B71A-1DAF2EAEC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dvance.uconn.edu/2004/040209/04020910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868A-81D4-4FCB-8CFE-028FC2C5D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903.nicerweb.com/Locked/media/ch38/pollen_fertiliza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877E-40BD-48E2-B52D-9E84EFB2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boundless.com/biology/textbooks/boundless-biology-textbook/plant-reproduction-32/pollination-and-fertilization-190/development-of-the-seed-725-1195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1114-EFC3-4543-A57A-8D2BD3ED5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ispersal image from: https://www.blendspace.com/lessons/XmPUWR_sqJVY2A/seed-dispersal-migration-hibernation-es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dispersal image from: http://science.psu.edu/news-and-events/2010-news/Carlo2-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of seed dispersal: https://www.youtube.com/watch?v=6loGKPKDq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B5EA-04EE-4235-A7DE-940752FCA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1CE7-B29D-4497-97AE-0C11C6712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D talk link: https://www.ted.com/talks/louie_schwartzberg_the_hidden_beauty_of_pollination?language=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844-1FA9-4DF8-A1BC-D9A973D8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255-1FF5-4BDB-B2BC-01E38768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02A-11D0-4CA7-AB04-1B445FF4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44C-3D75-4AFA-B6E0-29A136D0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3FE-3EE8-449A-AB43-1B984F7E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0DA-06AA-4F08-B9E2-0E6DBA30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5BE-9BA3-414C-BCEB-B85E7766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844-ED42-46F3-BD0A-0EA298ED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E4B-F43E-4DFB-A7C6-8C7EB59F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ADA-F8B8-4A12-9EF9-01B8652C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5A5-56C4-46C0-9F08-E83A2CE9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22C-3D2C-4A25-A784-A30E70D6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3733-A369-4594-8570-47C4C63FF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6loGKPKDqCw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ted.com/talks/louie_schwartzberg_the_hidden_beauty_of_pollination?language=e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Seed Plants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3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ination in Angi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38_02aFlowerStructure-L"/>
          <p:cNvPicPr/>
          <p:nvPr/>
        </p:nvPicPr>
        <p:blipFill>
          <a:blip r:embed="rId1"/>
          <a:stretch/>
        </p:blipFill>
        <p:spPr>
          <a:xfrm>
            <a:off x="1963800" y="1828800"/>
            <a:ext cx="5216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ination in Gymn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28" descr="gymnospermlifecycle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 vs. Cross-Poll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ollen04"/>
          <p:cNvPicPr/>
          <p:nvPr/>
        </p:nvPicPr>
        <p:blipFill>
          <a:blip r:embed="rId1"/>
          <a:stretch/>
        </p:blipFill>
        <p:spPr>
          <a:xfrm>
            <a:off x="1279440" y="1981080"/>
            <a:ext cx="658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38_06DoubleFertilizationA"/>
          <p:cNvPicPr/>
          <p:nvPr/>
        </p:nvPicPr>
        <p:blipFill>
          <a:blip r:embed="rId1"/>
          <a:stretch/>
        </p:blipFill>
        <p:spPr>
          <a:xfrm>
            <a:off x="1973160" y="1981080"/>
            <a:ext cx="51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gure-32-02-09"/>
          <p:cNvPicPr/>
          <p:nvPr/>
        </p:nvPicPr>
        <p:blipFill>
          <a:blip r:embed="rId1"/>
          <a:stretch/>
        </p:blipFill>
        <p:spPr>
          <a:xfrm>
            <a:off x="685800" y="2263680"/>
            <a:ext cx="77724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ed Disper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seed_dispersal- wind"/>
          <p:cNvPicPr/>
          <p:nvPr/>
        </p:nvPicPr>
        <p:blipFill>
          <a:blip r:embed="rId2"/>
          <a:stretch/>
        </p:blipFill>
        <p:spPr>
          <a:xfrm>
            <a:off x="228600" y="1843200"/>
            <a:ext cx="4343400" cy="416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image_mini"/>
          <p:cNvPicPr/>
          <p:nvPr/>
        </p:nvPicPr>
        <p:blipFill>
          <a:blip r:embed="rId3"/>
          <a:stretch/>
        </p:blipFill>
        <p:spPr>
          <a:xfrm>
            <a:off x="4648320" y="2827440"/>
            <a:ext cx="426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includ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genetic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are able to be dispersed away from parent plant (less compet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can remain dormant until conditions become favo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idden Beauty of Pollination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evolution of flowers &amp; pollinators is amazing, and our food supply depends largely on this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important to think about how our activities can help, rather than harm the pollin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inspired by this introduction &amp;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xcerp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beautiful film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gs of Life”</a:t>
            </a: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4T01:20:23Z</dcterms:created>
  <dc:creator>rubina khan</dc:creator>
  <dc:description/>
  <dc:language>en-US</dc:language>
  <cp:lastModifiedBy>rubina khan</cp:lastModifiedBy>
  <dcterms:modified xsi:type="dcterms:W3CDTF">2017-06-08T13:13:22Z</dcterms:modified>
  <cp:revision>57</cp:revision>
  <dc:subject/>
  <dc:title>Plant Reproduction</dc:title>
</cp:coreProperties>
</file>